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A96A-3F58-430F-BEE8-C4447BA3B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F8AA-4BD2-4D21-A362-E60EDD6B1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9D58-381C-4872-822E-740446B03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43F0-549D-41DA-93EF-69620CE941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E9DB-42DF-41E7-A7D4-CB35EAD3C1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29BC-068F-4AC6-BA5F-5DEACEB59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B861-470C-400F-8A20-E7C802B1E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9182-272E-4706-B72F-009C19B99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5790-F6EB-4A44-9902-1D35046FE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0528-280E-4CBA-B0FD-7324580AA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AB99-D1CD-4BB1-BCE9-1BA8B34EE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B5B1-1473-421B-ACE0-BCF3479A3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3E5E-BA41-45D4-B2F2-DC45BA37C8C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4E05-3BC3-47AB-9EED-B75B8EEA1C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2C3F-35ED-48C7-80B3-C7FBD40E7D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F516-070E-4A31-BDA6-2705987A75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62E9-E671-4CBC-AC1E-DE27AB3A2A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27FB-4F75-45FE-A02C-5123FFB41E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4751-4624-4629-9A03-F3D1F63CA8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17C3-AC51-4FBD-A01D-C312537224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E0C7-8129-436D-9C35-AEB6DB30282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D7CA-9471-43F8-938F-066DBE063B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D3BE-9B34-4DF5-9786-E10FE7425D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0D7F-AA92-4E07-9DCB-5E5CCC9969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52D5-2617-42E2-87A8-593EC5FE70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CA93E-152D-4F92-9991-A21B1B3C05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8921-A722-418C-964B-CFD94CBFA8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8F5E-CA61-4602-94F1-CCBBEF0567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458C-F08B-4A42-89FF-3EEA573303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A472-28DD-4B19-8F14-85A8E4298D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BA80-FCE2-4320-B54E-45E7B4291E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2337-B394-4CA8-856E-925CAA56ED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4B24-BA9A-41A6-9194-B9BB722AA2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12CE-06EF-4244-ADEA-293438CF39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A77F-1459-417E-BABF-D679450B17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75C6-320E-414C-8F65-6FC594AD65E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9627-F0F2-40FD-8C3C-52438DDB45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FF58-D3BD-463E-B25F-3168009497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F1B9-EDDB-4FA0-B40E-24C80FD7F8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A561-3EA6-419A-86F8-6A0F9757953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4A9B-77B3-4EE5-9AA6-763AF2E4C50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9879-1379-46B7-9D75-DF5FA3CE0B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9366-7130-4B7D-BFB8-939C462828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8F7E-96A3-4872-9B93-5CC373992A9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6C62-1140-47E3-8C97-5E3058D277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C6B5-0850-4728-8DC7-5922E5113E5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FBFD-31C4-42E1-AEA7-5AAF52E554D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457E-3BD8-4200-9E09-D6418A53E5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694C-74BB-4100-817A-F554FFF92A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CE43-E0B3-4AA3-B0D7-FEE252DBBB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F3CD-14C8-4202-BAA0-C3A80EB9B1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A62C-9F9D-40DD-91D9-2947BAB3BE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2-11T19:51:05Z</dcterms:modified>
  <cp:revision>101</cp:revision>
  <dc:subject/>
  <dc:title>Slide 1</dc:title>
</cp:coreProperties>
</file>