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F56C4-C611-4F78-91E6-F7730A1F24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B9098-BE63-47DA-86BA-436F3FF334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F87AE-7DC9-4641-84D9-D97DE7DE71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2C1E0-4B58-4195-BB07-1C9981FBC9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35981-214C-473A-A58E-8164C83935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9CCBC-E65F-4F50-8C45-1CC88BB555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2F6C8-4838-4A4E-8FCB-2DB41A5924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190D9-5591-42EB-92CB-DC085FD6C3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298DF-7F6D-49E8-8532-05F1CCFEE7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59C76-627F-473B-B197-E146793FBF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D267D-AA90-4857-B954-167CF3484A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D05B0-507F-4275-A0C5-8C916960BE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8543880" y="6242040"/>
            <a:ext cx="600120" cy="6159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3581280" y="6597720"/>
            <a:ext cx="5105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DSI Technical Conference 2007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■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Sacramento, CA  USA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■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October 18-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6248520"/>
            <a:ext cx="685800" cy="60948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6477120" y="632448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 n t e l l i g e n t  T o o l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f4e7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sldNum" idx="1"/>
          </p:nvPr>
        </p:nvSpPr>
        <p:spPr>
          <a:xfrm>
            <a:off x="8534160" y="5790960"/>
            <a:ext cx="609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FABCC-02C2-41EB-A4EE-179E934B5C87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4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7.png"/><Relationship Id="rId14" Type="http://schemas.openxmlformats.org/officeDocument/2006/relationships/image" Target="../media/image9.png"/><Relationship Id="rId15" Type="http://schemas.openxmlformats.org/officeDocument/2006/relationships/image" Target="../media/image18.png"/><Relationship Id="rId16" Type="http://schemas.openxmlformats.org/officeDocument/2006/relationships/image" Target="../media/image13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png"/><Relationship Id="rId2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638680" y="50292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859"/>
                </a:solidFill>
                <a:latin typeface="Arial"/>
              </a:rPr>
              <a:t>Presented 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859"/>
                </a:solidFill>
                <a:latin typeface="Arial"/>
              </a:rPr>
              <a:t>Miguel Esco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533520"/>
            <a:ext cx="8229600" cy="76176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nergetic Data Systems, Inc.</a:t>
            </a:r>
            <a:br>
              <a:rPr sz="4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2400480"/>
            <a:ext cx="85341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859"/>
                </a:solidFill>
                <a:latin typeface="Arial"/>
              </a:rPr>
              <a:t>Session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09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39FFC-CEE9-40C9-98E6-7B075273545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6324480" cy="28479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F8E73-7503-4F38-AB8D-84C989DE9EA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6343560" cy="40575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36727-1480-4839-8353-4DD62F52DA2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8028000" cy="31906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9981E-1DD2-4E26-9219-D885CF28F9B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914400" y="1257480"/>
            <a:ext cx="8008920" cy="43434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C5263-1450-4DF0-8A0C-8444AD156F6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914400" y="1276200"/>
            <a:ext cx="7027920" cy="21528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13D25-0D64-472C-9AB4-CAD1EA14A2F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eliv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llel rule set(s), merged at run-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technology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‘ subjob 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unctio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ivery “properties” into variabl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brary, doc type, doc id, sub-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tle,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tegories, links, key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it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ies variables into email and fax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2AA9B-171E-4168-A662-172408DA142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533520" y="152280"/>
            <a:ext cx="2895480" cy="3276720"/>
          </a:xfrm>
          <a:prstGeom prst="rect">
            <a:avLst/>
          </a:prstGeom>
          <a:solidFill>
            <a:srgbClr val="efe8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152388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251460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2514600" y="762120"/>
            <a:ext cx="828720" cy="5140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6"/>
          <a:stretch/>
        </p:blipFill>
        <p:spPr>
          <a:xfrm>
            <a:off x="762120" y="2133720"/>
            <a:ext cx="1609560" cy="11523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09480" y="272880"/>
            <a:ext cx="2743200" cy="368280"/>
          </a:xfrm>
          <a:prstGeom prst="rect">
            <a:avLst/>
          </a:prstGeom>
          <a:solidFill>
            <a:srgbClr val="dec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a s e   U n F o r m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7"/>
          <a:stretch/>
        </p:blipFill>
        <p:spPr>
          <a:xfrm>
            <a:off x="2514600" y="3581280"/>
            <a:ext cx="828720" cy="5526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8"/>
          <a:stretch/>
        </p:blipFill>
        <p:spPr>
          <a:xfrm>
            <a:off x="3505320" y="1447920"/>
            <a:ext cx="819000" cy="5428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9"/>
          <a:stretch/>
        </p:blipFill>
        <p:spPr>
          <a:xfrm>
            <a:off x="3809880" y="2133720"/>
            <a:ext cx="828720" cy="5331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0"/>
          <a:stretch/>
        </p:blipFill>
        <p:spPr>
          <a:xfrm>
            <a:off x="3809880" y="2819520"/>
            <a:ext cx="828720" cy="5238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743200" y="1981080"/>
            <a:ext cx="0" cy="114300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362320" y="228600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362320" y="25606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62320" y="281952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362320" y="31240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89548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37160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657600" y="304812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48120" y="1981080"/>
            <a:ext cx="0" cy="160020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3657600" y="1924200"/>
            <a:ext cx="9360" cy="11620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76720" y="16765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1"/>
          <a:stretch/>
        </p:blipFill>
        <p:spPr>
          <a:xfrm>
            <a:off x="2514600" y="4114800"/>
            <a:ext cx="990720" cy="2491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12"/>
          <a:stretch/>
        </p:blipFill>
        <p:spPr>
          <a:xfrm>
            <a:off x="3809880" y="3352680"/>
            <a:ext cx="990720" cy="2192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4419720" y="1676520"/>
            <a:ext cx="0" cy="4474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267080" y="1676520"/>
            <a:ext cx="19080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5486400" y="1447920"/>
            <a:ext cx="3276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ntegrato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ntegrator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Engine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sd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3505320" y="152280"/>
            <a:ext cx="5486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ing &amp; Delivery  Ext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76720" y="9907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505320" y="838080"/>
            <a:ext cx="441936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 rule-file, rule-set extensions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5FBE4-6257-4D2B-852A-D83D376B755A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ivery Methods:  3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i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ve copy p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A4295-9969-4AF3-991C-C6F8D21E9EF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rieval Method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 fixed loc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 delimited li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v textfile looku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DBC look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D4C50-E866-406A-868E-0981FB20350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52280" y="249120"/>
            <a:ext cx="8229600" cy="6359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3A385-004F-4EC3-A140-4E4CE2E8EA3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ssion Outlin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view of component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templatize rule-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x featur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E08AD-3522-42D4-8075-E0C8E5BB50D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229600" cy="35067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259F8-52A9-490C-A0EF-1BEC0A1185E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 / Doc ID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25207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BADB8-A364-4B52-B2C8-72D6C5AD3C6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ay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229600" cy="30002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AA3F6-1624-419B-A1DD-3E072982828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 Specific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8305920" cy="43448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4695E-2DC7-47C4-8D73-99AFCB36F81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58672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57200" y="1185840"/>
            <a:ext cx="7772400" cy="44848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9E481-FF9E-4EEB-85E2-9EE4FC0D3B2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Override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229600" cy="2860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E7A53-BB16-4D28-81D7-B2718AEAFAD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914400" y="1324080"/>
            <a:ext cx="5581800" cy="420984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7FA87-15EE-472D-912E-41F22242AFF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5581800" cy="26953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B1DBA-9771-4F57-B898-D08076C8CE8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914400" y="1185840"/>
            <a:ext cx="5572080" cy="44863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166E8-AD6F-428B-B0BD-6FE60ED0129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6343560" cy="3867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3B0E2-8E4D-48D4-B75F-E8454CC9F43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152280"/>
            <a:ext cx="2895480" cy="3276720"/>
          </a:xfrm>
          <a:prstGeom prst="rect">
            <a:avLst/>
          </a:prstGeom>
          <a:solidFill>
            <a:srgbClr val="efe8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52388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251460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2514600" y="762120"/>
            <a:ext cx="828720" cy="514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762120" y="2133720"/>
            <a:ext cx="1609560" cy="1152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9480" y="272880"/>
            <a:ext cx="2743200" cy="368280"/>
          </a:xfrm>
          <a:prstGeom prst="rect">
            <a:avLst/>
          </a:prstGeom>
          <a:solidFill>
            <a:srgbClr val="dec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a s e   U n F o r m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>
            <a:off x="2514600" y="3581280"/>
            <a:ext cx="828720" cy="552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8"/>
          <a:stretch/>
        </p:blipFill>
        <p:spPr>
          <a:xfrm>
            <a:off x="3505320" y="1447920"/>
            <a:ext cx="819000" cy="5428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9"/>
          <a:stretch/>
        </p:blipFill>
        <p:spPr>
          <a:xfrm>
            <a:off x="3809880" y="2133720"/>
            <a:ext cx="828720" cy="5331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0"/>
          <a:stretch/>
        </p:blipFill>
        <p:spPr>
          <a:xfrm>
            <a:off x="3809880" y="2819520"/>
            <a:ext cx="828720" cy="523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743200" y="1981080"/>
            <a:ext cx="0" cy="114300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62320" y="228600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62320" y="25606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62320" y="281952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62320" y="31240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9548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37160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6232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57600" y="304812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48120" y="1981080"/>
            <a:ext cx="0" cy="160020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3657600" y="1924200"/>
            <a:ext cx="9360" cy="11620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76720" y="16765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1"/>
          <a:stretch/>
        </p:blipFill>
        <p:spPr>
          <a:xfrm>
            <a:off x="2514600" y="4114800"/>
            <a:ext cx="990720" cy="249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2"/>
          <a:stretch/>
        </p:blipFill>
        <p:spPr>
          <a:xfrm>
            <a:off x="3809880" y="3352680"/>
            <a:ext cx="990720" cy="2192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419720" y="1676520"/>
            <a:ext cx="0" cy="4474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267080" y="1676520"/>
            <a:ext cx="19080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5486400" y="1447920"/>
            <a:ext cx="3276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ntegrato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ntegrator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Engine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sd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3505320" y="152280"/>
            <a:ext cx="5486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ing &amp; Delivery  Ext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9907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838080"/>
            <a:ext cx="441936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 rule-file, rule-set extensions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BAABF-47BE-4E96-862C-8E66E047C086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5438880" cy="513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892ED-8B57-4F7A-9047-C1DE2C48D5A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tmp/eDoc/eDocAll_2007_1003.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914400" y="3403440"/>
            <a:ext cx="7543800" cy="27594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914400" y="160020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obal EDOC_DEBUGLEV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03784-7EEB-46EF-BEAB-F3200070E76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tmp/eDoc/eDocAll_2007_1003.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7315200" cy="36450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914400" y="1219320"/>
            <a:ext cx="5181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14400" y="160020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obal EDOC_DEBUGLEV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69FD8-9304-4E59-B875-2539DEFA0F9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tmp/eDoc/eDocAll_2007_1003.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7580160" cy="243828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719280" y="1981080"/>
            <a:ext cx="7510320" cy="42246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914400" y="12952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obal EDOC_DEBUGLEV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E99C6-EB14-4EB7-B241-4354EDE8D2E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tmp/eDoc/eDocAll_2007_1003.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4857840" cy="44672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914400" y="12952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obal EDOC_DEBUGLEV=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7EE56-B5A2-4B78-8790-2067374F2B1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DeliverEng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kahun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055 lines of codeblock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2K 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delivery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mail / fax / laser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ultaneously for same doc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iable templates swap in/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address retrieval methods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sence” of eDelivery only 1K 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486400" y="2133720"/>
            <a:ext cx="2819520" cy="2228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decfc0"/>
                </a:solidFill>
                <a:latin typeface="Arial"/>
              </a:rPr>
              <a:t>INDEPENDENCE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EXIBILITY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INTAINABILITY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486400" y="838080"/>
            <a:ext cx="365760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Engin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CBA46-1565-4E66-94B6-219DFCB463E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sence of eDeliverEngine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3467160" cy="523872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486400" y="1523880"/>
            <a:ext cx="2743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ss tha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K by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C04DA-9947-4D9D-9C3B-CA11DC853FD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sence of eDeliverEngin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62440" cy="47336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6400800" y="1219320"/>
            <a:ext cx="2286000" cy="50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in subj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 ID chan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ity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fla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ivery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store 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FB908-F195-4034-BE4F-993B681DC95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sence of eDeliverEngin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5448240" cy="534348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6400800" y="1219320"/>
            <a:ext cx="228600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T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in subj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 ID chan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exec 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deliver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close 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E972D-6755-4E0D-8C51-1B4D4781B0B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52280"/>
            <a:ext cx="2895480" cy="3276720"/>
          </a:xfrm>
          <a:prstGeom prst="rect">
            <a:avLst/>
          </a:prstGeom>
          <a:solidFill>
            <a:srgbClr val="efe8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152388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4"/>
          <a:stretch/>
        </p:blipFill>
        <p:spPr>
          <a:xfrm>
            <a:off x="251460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5"/>
          <a:stretch/>
        </p:blipFill>
        <p:spPr>
          <a:xfrm>
            <a:off x="2514600" y="762120"/>
            <a:ext cx="828720" cy="51408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6"/>
          <a:stretch/>
        </p:blipFill>
        <p:spPr>
          <a:xfrm>
            <a:off x="762120" y="2133720"/>
            <a:ext cx="1609560" cy="115236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609480" y="272880"/>
            <a:ext cx="2743200" cy="368280"/>
          </a:xfrm>
          <a:prstGeom prst="rect">
            <a:avLst/>
          </a:prstGeom>
          <a:solidFill>
            <a:srgbClr val="dec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a s e   U n F o r m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7"/>
          <a:stretch/>
        </p:blipFill>
        <p:spPr>
          <a:xfrm>
            <a:off x="2514600" y="3581280"/>
            <a:ext cx="828720" cy="5526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8"/>
          <a:stretch/>
        </p:blipFill>
        <p:spPr>
          <a:xfrm>
            <a:off x="3505320" y="1447920"/>
            <a:ext cx="819000" cy="54288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9"/>
          <a:stretch/>
        </p:blipFill>
        <p:spPr>
          <a:xfrm>
            <a:off x="3809880" y="2133720"/>
            <a:ext cx="828720" cy="53316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10"/>
          <a:stretch/>
        </p:blipFill>
        <p:spPr>
          <a:xfrm>
            <a:off x="3809880" y="2819520"/>
            <a:ext cx="828720" cy="5238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2743200" y="1981080"/>
            <a:ext cx="0" cy="114300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362320" y="228600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362320" y="25606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362320" y="281952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362320" y="31240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1440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37160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36232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657600" y="304812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048120" y="1981080"/>
            <a:ext cx="0" cy="160020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3657600" y="1924200"/>
            <a:ext cx="9360" cy="11620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276720" y="16765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1"/>
          <a:stretch/>
        </p:blipFill>
        <p:spPr>
          <a:xfrm>
            <a:off x="2514600" y="4114800"/>
            <a:ext cx="990720" cy="24912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12"/>
          <a:stretch/>
        </p:blipFill>
        <p:spPr>
          <a:xfrm>
            <a:off x="3809880" y="3352680"/>
            <a:ext cx="990720" cy="21924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4419720" y="1676520"/>
            <a:ext cx="0" cy="4474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67080" y="1676520"/>
            <a:ext cx="19080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505320" y="152280"/>
            <a:ext cx="5486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ing &amp; Delivery  Ext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276720" y="9907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505320" y="838080"/>
            <a:ext cx="441936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 rule-file, rule-set extensions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3429000"/>
            <a:ext cx="3352680" cy="228744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spAutoFit/>
          </a:bodyPr>
          <a:p>
            <a:pPr algn="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End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of Sess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EED4E-14DD-4F9E-9CDB-C2979D18CBA3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3520" y="152280"/>
            <a:ext cx="2895480" cy="3276720"/>
          </a:xfrm>
          <a:prstGeom prst="rect">
            <a:avLst/>
          </a:prstGeom>
          <a:solidFill>
            <a:srgbClr val="efe8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52388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251460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2514600" y="762120"/>
            <a:ext cx="828720" cy="5140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762120" y="2133720"/>
            <a:ext cx="1609560" cy="1152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09480" y="272880"/>
            <a:ext cx="2743200" cy="368280"/>
          </a:xfrm>
          <a:prstGeom prst="rect">
            <a:avLst/>
          </a:prstGeom>
          <a:solidFill>
            <a:srgbClr val="dec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a s e   U n F o r m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43200" y="1981080"/>
            <a:ext cx="0" cy="114300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362320" y="228600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25606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281952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1240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9548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36232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48120" y="1981080"/>
            <a:ext cx="0" cy="160020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7"/>
          <a:stretch/>
        </p:blipFill>
        <p:spPr>
          <a:xfrm>
            <a:off x="4724280" y="152280"/>
            <a:ext cx="914400" cy="5079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8"/>
          <a:stretch/>
        </p:blipFill>
        <p:spPr>
          <a:xfrm>
            <a:off x="3809880" y="152280"/>
            <a:ext cx="828720" cy="5144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657600" y="38088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9"/>
          <a:stretch/>
        </p:blipFill>
        <p:spPr>
          <a:xfrm>
            <a:off x="3809880" y="3352680"/>
            <a:ext cx="1295640" cy="2858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0"/>
          <a:stretch/>
        </p:blipFill>
        <p:spPr>
          <a:xfrm>
            <a:off x="3505320" y="1447920"/>
            <a:ext cx="819000" cy="542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1"/>
          <a:stretch/>
        </p:blipFill>
        <p:spPr>
          <a:xfrm>
            <a:off x="3809880" y="2133720"/>
            <a:ext cx="828720" cy="5331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2"/>
          <a:stretch/>
        </p:blipFill>
        <p:spPr>
          <a:xfrm>
            <a:off x="3809880" y="2819520"/>
            <a:ext cx="828720" cy="5238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657600" y="304812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3657600" y="1924200"/>
            <a:ext cx="9360" cy="11620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95760" y="343080"/>
            <a:ext cx="0" cy="110484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16765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419720" y="1676520"/>
            <a:ext cx="0" cy="4474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267080" y="1676520"/>
            <a:ext cx="19080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3"/>
          <a:stretch/>
        </p:blipFill>
        <p:spPr>
          <a:xfrm>
            <a:off x="800280" y="4933800"/>
            <a:ext cx="1581120" cy="13338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4"/>
          <a:stretch/>
        </p:blipFill>
        <p:spPr>
          <a:xfrm>
            <a:off x="2514600" y="3581280"/>
            <a:ext cx="828720" cy="5526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5"/>
          <a:stretch/>
        </p:blipFill>
        <p:spPr>
          <a:xfrm>
            <a:off x="533520" y="3581280"/>
            <a:ext cx="1847880" cy="16671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6"/>
          <a:stretch/>
        </p:blipFill>
        <p:spPr>
          <a:xfrm>
            <a:off x="2514600" y="4114800"/>
            <a:ext cx="1219320" cy="306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7"/>
          <a:stretch/>
        </p:blipFill>
        <p:spPr>
          <a:xfrm>
            <a:off x="2381400" y="4533840"/>
            <a:ext cx="780840" cy="17337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8"/>
          <a:stretch/>
        </p:blipFill>
        <p:spPr>
          <a:xfrm>
            <a:off x="3886200" y="3733920"/>
            <a:ext cx="3429000" cy="24699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562360" y="152280"/>
            <a:ext cx="3429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ge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9"/>
          <a:stretch/>
        </p:blipFill>
        <p:spPr>
          <a:xfrm>
            <a:off x="6095880" y="762120"/>
            <a:ext cx="2746440" cy="22431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0"/>
          <a:stretch/>
        </p:blipFill>
        <p:spPr>
          <a:xfrm>
            <a:off x="5105520" y="5486400"/>
            <a:ext cx="3733560" cy="54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276720" y="990720"/>
            <a:ext cx="6094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86200" y="838080"/>
            <a:ext cx="1828800" cy="398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[ rule-file, rule-set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extensions 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6C7DD-6D99-4503-854D-AB6F75979A7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template/shell, why parallel rule 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ge command allows us to …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ency from code replication, “cloning”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ity - Maintenance and configuration independent of enhancement rulese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ion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67601-F3E0-4EC8-B87A-678ECBFF65C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x features used in “e” rulese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ing 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option on get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filefield function for retrieval method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Support Server (w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S fax accessibility via msfax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DBC functions for retrieval method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bconnect, dbexec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file, getdocidprop, putdocidpr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62202-C93F-4E64-A882-6A98E3864C1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chiv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llel rule set, merged at run-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technology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‘ archive 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man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ve document properties into variabl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brary, doc type, doc id, sub-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tle,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tegories, links, key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it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ies variables into archive com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A3727-0094-41B6-944C-D71809B40A0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52280" y="249120"/>
            <a:ext cx="8229600" cy="6359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8D542-279B-42E0-919C-3C2AC594344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14400" y="1276200"/>
            <a:ext cx="6334200" cy="43056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8E0F1-6997-4612-8418-9A175EC4504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7T20:43:10Z</dcterms:created>
  <dc:creator>Miguel J. Escobar</dc:creator>
  <dc:description/>
  <dc:language>en-US</dc:language>
  <cp:lastModifiedBy>Miguel J. Escobar</cp:lastModifiedBy>
  <dcterms:modified xsi:type="dcterms:W3CDTF">2007-10-17T01:07:11Z</dcterms:modified>
  <cp:revision>100</cp:revision>
  <dc:subject/>
  <dc:title>Slide 1</dc:title>
</cp:coreProperties>
</file>